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90897"/>
        <c:axId val="12033311"/>
      </c:barChart>
      <c:catAx>
        <c:axId val="707908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33311"/>
        <c:crosses val="autoZero"/>
        <c:auto val="1"/>
        <c:lblAlgn val="ctr"/>
        <c:lblOffset val="100"/>
        <c:noMultiLvlLbl val="0"/>
      </c:catAx>
      <c:valAx>
        <c:axId val="12033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908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789-549B-45E4-A6B9-43250A17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F201-A149-4F94-B30F-4D5B8838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41CA-5C4D-4669-B0F9-2A2B802B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7F9-D13C-4B51-A1A8-2F842494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D94-9CCA-4E7A-861C-90DCA4DE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CF74-5E1F-4A22-8981-3975DC81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141-CEC6-4CC4-BEE5-73385FB6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67F-4EFD-4662-8A32-CD7E0908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8CEF-00A8-49E7-822E-C982D0A8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EAF2-D76B-4972-A22A-D17BEA7B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C3F6-2AB6-478E-B396-08716245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D9A3-9292-49B4-BAAA-F8C19404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A4298-AC90-4367-BAE4-5DD979BA74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