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81448"/>
        <c:axId val="46514068"/>
      </c:barChart>
      <c:catAx>
        <c:axId val="19781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14068"/>
        <c:crosses val="autoZero"/>
        <c:auto val="1"/>
        <c:lblAlgn val="ctr"/>
        <c:lblOffset val="100"/>
        <c:noMultiLvlLbl val="0"/>
      </c:catAx>
      <c:valAx>
        <c:axId val="46514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81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7EC-99AA-4C0A-B436-91780CDA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F20-2189-4A18-B17D-508508AE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768-6772-40F1-9CFD-1D91109F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910-ED3F-4064-A65A-AD4966A4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C0F7-7649-4107-B002-B53789A7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0A2-4048-427A-BDB1-71CC8F4C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159-FA97-47E7-8690-02106AF6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C9A-5E49-431C-BFE5-DD72C2FA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2D3-E51D-45BC-89F4-7B71287F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0194-A5BE-47DD-9CB2-0AB4F5F1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407-0A05-47FE-BFD2-0E9A0087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CE0-1CFB-4547-8A40-9B94824D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66437-E96F-4396-B6AD-B46936F973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