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65095"/>
        <c:axId val="24683889"/>
      </c:barChart>
      <c:catAx>
        <c:axId val="73665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83889"/>
        <c:crosses val="autoZero"/>
        <c:auto val="1"/>
        <c:lblAlgn val="ctr"/>
        <c:lblOffset val="100"/>
        <c:noMultiLvlLbl val="0"/>
      </c:catAx>
      <c:valAx>
        <c:axId val="24683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65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AA3-05B7-4E3C-B039-4C0CD36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E30-6553-48C2-9052-1AA70C0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218-D76A-4FFC-92A4-52C1F073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FB4-866E-4E83-B0AA-240BE4B8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93C-C4DF-4BE8-BC2C-D00B36B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849-855B-4808-9EB4-EB26BC4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A56-3907-48CB-A426-193E40E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085-93F0-4ABC-B214-0E666C48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36E-C61A-4050-AFD7-D4C140E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C91-CEEE-4083-9660-9344A40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DCA-92D8-4158-8C30-E9B38AD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1E0-2B96-481F-B4A8-2533E61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8DA8-03DE-4FD1-A9DA-75DC3E4AB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