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46517"/>
        <c:axId val="57340278"/>
      </c:barChart>
      <c:catAx>
        <c:axId val="52746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40278"/>
        <c:crosses val="autoZero"/>
        <c:auto val="1"/>
        <c:lblAlgn val="ctr"/>
        <c:lblOffset val="100"/>
        <c:noMultiLvlLbl val="0"/>
      </c:catAx>
      <c:valAx>
        <c:axId val="57340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46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35F-C460-440F-867B-2264133B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6E6-C246-485D-8BEF-4054BB96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E23-8DBD-4721-9CE8-352EF22D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4C6-1692-4E0B-B83A-7AE1BD10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99F-62D9-40BC-AD15-51BE9312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173-382C-4C61-9505-DC382308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9DC-AB33-449F-92F3-52D046B3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D2A-1253-4091-A9B9-B5079544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FD4-AC0E-40F0-9C1A-558B935A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4DF-FB30-4ECC-8879-FBE6652E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473-C65B-4445-B693-CBFF4BCB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326-18A6-4872-8BB1-0372F170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6F622-280F-4C5D-A933-22357F6384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