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657125"/>
        <c:axId val="92098838"/>
      </c:barChart>
      <c:catAx>
        <c:axId val="986571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098838"/>
        <c:crosses val="autoZero"/>
        <c:auto val="1"/>
        <c:lblAlgn val="ctr"/>
        <c:lblOffset val="100"/>
        <c:noMultiLvlLbl val="0"/>
      </c:catAx>
      <c:valAx>
        <c:axId val="920988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6571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9CA6-D66B-456A-90E4-4C87D47B7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B802-5DFD-4711-BAAB-C7889066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D867-1A20-401F-B321-AD92F3806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6D62-5B85-4427-AB42-DF7E5E179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5292-9D40-449E-A63F-547B0E64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667B-2359-4931-96D0-63FDD6F2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B5E0-2194-4096-B9AE-80B483D7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8FD5-1AAC-4685-9E07-2F9331DD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03FB-59A9-4D34-9823-BE574F37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19FA-EE9E-480E-9C76-096A05FC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D4ED-A26C-48FF-9E16-6D93115F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A57B-B995-4071-924F-6D92A950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E21359-FC40-4441-8EF5-1A6E80FAEA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