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12015"/>
        <c:axId val="46433807"/>
      </c:barChart>
      <c:catAx>
        <c:axId val="48812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33807"/>
        <c:crosses val="autoZero"/>
        <c:auto val="1"/>
        <c:lblAlgn val="ctr"/>
        <c:lblOffset val="100"/>
        <c:noMultiLvlLbl val="0"/>
      </c:catAx>
      <c:valAx>
        <c:axId val="46433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12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1F5-9136-4E61-9F2D-6AA77927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F40-076F-48BD-8C31-05E2EFAE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5EC-284F-48CD-8640-4359E0A7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774-F9D8-4650-BCB7-30C1E672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637-B208-4F19-96C2-B361FAB8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9BE-4CC5-4B6B-8500-C0C46270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CF7-ADC3-4D7B-84C9-FAD7F1B8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5B5-2538-4F05-8838-A07620DF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51F-E9D0-4636-AAAC-0E68C8C5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0F4-900A-4035-B8F8-CC91B69B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8B7-3337-4B67-A7A9-DB900AA6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DA7-EB24-488E-B264-C9A2D6C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24018-957B-4B96-827F-9301B984B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