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86815"/>
        <c:axId val="71097331"/>
      </c:barChart>
      <c:catAx>
        <c:axId val="28586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97331"/>
        <c:crosses val="autoZero"/>
        <c:auto val="1"/>
        <c:lblAlgn val="ctr"/>
        <c:lblOffset val="100"/>
        <c:noMultiLvlLbl val="0"/>
      </c:catAx>
      <c:valAx>
        <c:axId val="71097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6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0F2-C4D9-40C0-8FB0-952FBFB3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5A8-32D9-439D-8DE1-9AC3E706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BE3-D974-4D65-AD6D-35223723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E97-EF72-4BC5-9970-B3D73A05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AF6-6A77-4A53-B967-4513E21D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3F0-5551-4779-8BC1-4D9CD52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247-A151-4FDA-9310-D985091C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F27-06C1-49D0-B934-1832372E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A2A-56EF-44D1-B912-78E35C9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BD8-1CB1-473D-83D4-ECF1B32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EBF-9047-4E68-AFDD-9C541BBF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D99-7660-43A7-BBAE-7304310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A5E55-6C8C-446C-8336-928BB54C83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