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71904"/>
        <c:axId val="10945133"/>
      </c:barChart>
      <c:catAx>
        <c:axId val="80171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45133"/>
        <c:crosses val="autoZero"/>
        <c:auto val="1"/>
        <c:lblAlgn val="ctr"/>
        <c:lblOffset val="100"/>
        <c:noMultiLvlLbl val="0"/>
      </c:catAx>
      <c:valAx>
        <c:axId val="10945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71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794-B61A-45F9-9D85-01376E85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72D-3874-4C2D-B573-33C9E170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F26-36D4-46DA-B700-27488762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2B8-CCA7-4590-9F5B-0BACAA12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7CC-5467-4233-8776-621DCF40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8AD-602B-4CC8-8A36-9CC33089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21D-C16A-42C3-BE1C-D9549B5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084-695F-47EF-8B87-AEBE2EF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68A-8B14-4803-9CE2-6AE7FEF6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1D0-8F4B-4548-A341-438B65E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F21-D8DA-4331-9A62-F9ADB2A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6B9-7EC7-4B3A-AC45-0682E9F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0CAAB-A08D-4291-9A21-A501DC34C4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