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368254"/>
        <c:axId val="95317935"/>
      </c:barChart>
      <c:catAx>
        <c:axId val="373682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317935"/>
        <c:crosses val="autoZero"/>
        <c:auto val="1"/>
        <c:lblAlgn val="ctr"/>
        <c:lblOffset val="100"/>
        <c:noMultiLvlLbl val="0"/>
      </c:catAx>
      <c:valAx>
        <c:axId val="953179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682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7D70-2481-41F0-9AB0-C65B3161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CC09-E826-426A-AFD7-D0697660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0916-77ED-4812-A1DA-E1D11CE22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C0F8-B419-4756-9454-535E2600C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E0D2-9E68-4F7C-993C-02B39FA0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7715-5E52-4190-AA4E-89ABE3FA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0224-98CD-4501-8CDE-A53F00F7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1FA2-69A4-4976-9A15-D4532B1D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053C-45D4-4ACA-A59B-958A8EED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9E2B-ED03-4F3E-BD4C-F98DBBB1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5B9F-B8B9-449E-A319-6CFADB4F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557C-B621-4B02-BA71-2A709753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0B1EB-1FB6-4BC9-BAC6-4092342A9E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