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62233"/>
        <c:axId val="48112380"/>
      </c:barChart>
      <c:catAx>
        <c:axId val="16562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2380"/>
        <c:crosses val="autoZero"/>
        <c:auto val="1"/>
        <c:lblAlgn val="ctr"/>
        <c:lblOffset val="100"/>
        <c:noMultiLvlLbl val="0"/>
      </c:catAx>
      <c:valAx>
        <c:axId val="48112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2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44E-3597-44FF-A73A-D9A28953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D5D-8630-42D3-9208-3A0B2F2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424-B3B9-4A61-96BA-9055E2E3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C15-37CE-4E0E-A2A5-01F32BFA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808-B0EC-4CBF-B7D7-27950C7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8C6-D933-429A-9CF8-34628EEF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E7E-CFD8-4518-8B36-B8AEFD9D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5A2-F866-4FFE-AB7B-37D762F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2DA-61FB-49AD-9E84-3F62A5D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EAB-E7E1-4F7B-8EFA-45EADBA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7BE-2471-4A47-A22E-E119B15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ACA-0D27-4A74-9928-6DD82F6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5150F-5F42-4FA0-8B73-495F3F23E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