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09393"/>
        <c:axId val="13399086"/>
      </c:barChart>
      <c:catAx>
        <c:axId val="58509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9086"/>
        <c:crosses val="autoZero"/>
        <c:auto val="1"/>
        <c:lblAlgn val="ctr"/>
        <c:lblOffset val="100"/>
        <c:noMultiLvlLbl val="0"/>
      </c:catAx>
      <c:valAx>
        <c:axId val="13399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09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330-6DBB-4529-ADA2-3E32CA76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63F-6427-42F1-92D1-0A0E67E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530-B9EF-417A-B023-24CAD2BB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E07-01E7-4ECC-9962-AB01E08F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5AE-D16E-41A2-A8B6-9B96CD3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E8C-F533-4EF6-A9DF-C86CC8F0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E76-4CE0-4D2B-978B-3915DAC3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282-EFD0-4B96-94AA-2E2617D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9B3-58DA-4416-B60D-D247293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749-EF02-4130-AC58-5F8E082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361-279A-457C-9B2E-78A8BFE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35C-5188-40A5-A101-5A6A2CB6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6C2B8-4FB1-466B-933E-CBE2B4DD7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