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25532"/>
        <c:axId val="8755659"/>
      </c:barChart>
      <c:catAx>
        <c:axId val="53225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5659"/>
        <c:crosses val="autoZero"/>
        <c:auto val="1"/>
        <c:lblAlgn val="ctr"/>
        <c:lblOffset val="100"/>
        <c:noMultiLvlLbl val="0"/>
      </c:catAx>
      <c:valAx>
        <c:axId val="8755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25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18D-BFB1-4C1F-8BCE-FE5BB798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BB1-BA90-43CF-961D-1C56544D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E0C-0379-432D-A8FC-0FEB0510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371-D989-4CB7-B10B-F9585FF3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8C7-8CA8-4D85-A038-DBFD3173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4FB-76B1-4464-93A0-7EC56549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FB9-6BF1-4375-AFB3-EF1D8A85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956-4C66-467F-8353-E090FE94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173-1B64-4160-A744-FCA7A2F2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1A4-38C9-42A1-841C-C3F83FF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F14-CEB4-4D42-BBDA-76147DC0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86D-DCD7-4441-94B3-CCA57709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56728-F31D-4662-B5AB-F210E9BC0C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