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4796"/>
        <c:axId val="51788979"/>
      </c:barChart>
      <c:catAx>
        <c:axId val="9594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88979"/>
        <c:crosses val="autoZero"/>
        <c:auto val="1"/>
        <c:lblAlgn val="ctr"/>
        <c:lblOffset val="100"/>
        <c:noMultiLvlLbl val="0"/>
      </c:catAx>
      <c:valAx>
        <c:axId val="51788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276-6A23-42CC-A34A-E2BC814D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396-85D1-408C-AEE0-F0EB4A54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3B1-1E84-4CA2-BD96-472B6823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51B-5ADD-4524-8786-A79FB60D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F7A-81FE-43BC-9BD4-001A0DA6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C23-8A70-41CA-B140-75C1811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6B8-C674-4D5E-A767-3E51E81C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80D-B674-457F-A0D5-105F71B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43D-33A4-4255-836C-5157A4A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60E-7922-4226-9E6F-78BAAF94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458-153F-41E7-82BC-1118E72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DC8-1F19-4844-95CD-69EB06D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02DD-174E-47EE-B0BB-FC9A37D0D6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