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49146"/>
        <c:axId val="82461882"/>
      </c:barChart>
      <c:catAx>
        <c:axId val="15449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61882"/>
        <c:crosses val="autoZero"/>
        <c:auto val="1"/>
        <c:lblAlgn val="ctr"/>
        <c:lblOffset val="100"/>
        <c:noMultiLvlLbl val="0"/>
      </c:catAx>
      <c:valAx>
        <c:axId val="82461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49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E81-C373-471C-90E6-C23A91A8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40E-FA9B-47DA-AE84-368816A6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16D-3D7A-4FA4-BF14-3E44A0F0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D3E-5E50-4CF1-B84A-4F4AC29D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9FF-9583-488E-8063-4E11C135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8AA-8ABB-47F6-9AA1-CB44619D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4AE-4F9A-4502-B359-784489FD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AD2-068A-4C48-9E41-5370E29B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E7E-3927-4A66-A9CE-58C2FF22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DE6-5DD6-4164-BFE6-9E9F7571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8E3-16DD-430B-B9C0-0BAE969E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6A6-31F5-43B2-BE6E-3FCAD1B9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B82A2-B38D-4C4A-ACFB-96B5703347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