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53780"/>
        <c:axId val="48908398"/>
      </c:barChart>
      <c:catAx>
        <c:axId val="21753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08398"/>
        <c:crosses val="autoZero"/>
        <c:auto val="1"/>
        <c:lblAlgn val="ctr"/>
        <c:lblOffset val="100"/>
        <c:noMultiLvlLbl val="0"/>
      </c:catAx>
      <c:valAx>
        <c:axId val="48908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53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7CE-3A35-4BF1-A39D-723CB1AC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F61A-D085-4300-921C-D1B41265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EC4-FE6C-4279-BB13-91AB64AC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0A7-984C-4198-90E5-791DA447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F2E6-9931-4734-8D34-80DB672F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32A-F0BD-46FC-B8D1-C695A1D7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7BA-0068-4FC0-9A46-96CC0FE1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7CA8-858B-420A-AD79-3AC621C8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4E69-7F5A-4E20-A3D2-43B66643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612-CD4E-407B-B33B-46C7831A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46B-A27C-494B-B43D-339C3895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6A6-601E-4136-8168-BF2FF742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42EC6-5FF5-44AE-856E-849E87A6E4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