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57809"/>
        <c:axId val="2790002"/>
      </c:barChart>
      <c:catAx>
        <c:axId val="62257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0002"/>
        <c:crosses val="autoZero"/>
        <c:auto val="1"/>
        <c:lblAlgn val="ctr"/>
        <c:lblOffset val="100"/>
        <c:noMultiLvlLbl val="0"/>
      </c:catAx>
      <c:valAx>
        <c:axId val="2790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57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C7F-59B6-4E8E-B446-B2C5DFEA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965-B1C5-410D-BEC7-EC4AAB8D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375-262F-4D84-8E86-1793353C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A73-591A-4FE0-A9EA-56AFD39B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E45-2C69-4D6B-9565-856DF4B2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9FE-6C2A-449D-BC33-79B4A47E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4C6-3648-47C7-9112-AEA70215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64B-09DB-4B7A-890E-86154366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1AB-0698-4EC9-9E6B-953F37C6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4AA-089D-4CBB-B667-0C9C3FAD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F4B-D15D-4D1E-9541-C7EE5CC3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9B86-804F-4D04-ABDA-4C629C4B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9ECEF-F315-4A1D-8352-008BD14FD8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