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937731"/>
        <c:axId val="97187757"/>
      </c:barChart>
      <c:catAx>
        <c:axId val="509377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187757"/>
        <c:crosses val="autoZero"/>
        <c:auto val="1"/>
        <c:lblAlgn val="ctr"/>
        <c:lblOffset val="100"/>
        <c:noMultiLvlLbl val="0"/>
      </c:catAx>
      <c:valAx>
        <c:axId val="971877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9377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3AB8-680D-4F75-AB38-046D9EC3A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70BF-F264-472C-A4F2-B923D2BC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8308-501D-47F2-B4E1-2E6888A03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9DC3-CBB3-4CBE-8A82-D8A20E061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166D-8E6E-41D0-B3E8-B581E4AE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BC4F-506F-4ECD-B7A9-6BC122B6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05F6-4324-4593-9950-28BD10B2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3EAC-0B72-4ABC-8944-10918D63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E585-8436-44BF-B40C-D57EA98F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8A86-7ED2-43FB-BD5D-B335626A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7E3D-9546-442A-84A5-ABEF4AEB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932E-43B5-45DE-BAAD-C3535B1A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BB37A-3843-41D7-AD3D-0E75CDF261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