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38369"/>
        <c:axId val="5479740"/>
      </c:barChart>
      <c:catAx>
        <c:axId val="32383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9740"/>
        <c:crosses val="autoZero"/>
        <c:auto val="1"/>
        <c:lblAlgn val="ctr"/>
        <c:lblOffset val="100"/>
        <c:noMultiLvlLbl val="0"/>
      </c:catAx>
      <c:valAx>
        <c:axId val="54797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83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0A27-4A81-430C-B7AE-EF016A11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BA1B-0388-43DD-B384-F9FF80CE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942D-B93F-49F7-A358-87B25A2D4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ECB7-7E86-4345-9DDD-27509CBF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1ED8-3A00-4148-ACD7-11FD45EE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A4F0-B35E-4184-9403-C05C5E99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D1DD-B414-4EC1-884B-46534AC8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CF8B-D5F7-48C8-9271-324443B6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4D7E-3B4D-4FD7-87C2-8DEC3462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84B4-DAFC-4152-B59D-6745891B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B87F-48BC-4F48-928E-BCA8A4F5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DE0A-DA54-4F75-B955-69570CE5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CF266-71B5-48D5-9847-345DFA3384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