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15198"/>
        <c:axId val="11631734"/>
      </c:barChart>
      <c:catAx>
        <c:axId val="44815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31734"/>
        <c:crosses val="autoZero"/>
        <c:auto val="1"/>
        <c:lblAlgn val="ctr"/>
        <c:lblOffset val="100"/>
        <c:noMultiLvlLbl val="0"/>
      </c:catAx>
      <c:valAx>
        <c:axId val="11631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15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8B9-EEFA-4DC2-946E-78CBDE56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912-CABE-4A74-901A-FD1A44B0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B15-9F37-4A1B-AFC0-15823665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5E4-B5BB-4A00-91A9-EA853A5A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BB1-B6CB-4A13-9CB3-A06649E9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7BE-01B8-4A06-B7A2-11593B67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ED3-E88F-476B-9C20-FBB18CB1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177-24BC-49FD-9F28-70EC2C0D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53B-5156-40FE-BCCD-98EA4E56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CA5B-E213-40F0-AE1B-148775F4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5DA-E342-405B-9423-B86DE6F3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D59-F6B4-4C6F-9A8D-9643742A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8DE5A-61C8-4F49-84C9-A9933420D1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