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29414"/>
        <c:axId val="72142258"/>
      </c:barChart>
      <c:catAx>
        <c:axId val="35829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42258"/>
        <c:crosses val="autoZero"/>
        <c:auto val="1"/>
        <c:lblAlgn val="ctr"/>
        <c:lblOffset val="100"/>
        <c:noMultiLvlLbl val="0"/>
      </c:catAx>
      <c:valAx>
        <c:axId val="72142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29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7E9-1240-405E-B447-79894053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CD4-BF40-44BB-AF79-7729D4F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E48-77DA-4F09-8F64-4C2CD196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C9B-3D8E-44F2-AAC0-3C7D2BD0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67E-A84A-4B13-A43A-06564FF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FAF-DEE7-4DD8-80F9-CD32D1C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B42-8CBD-4D78-8F0C-B72D5DE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ABE-BBB4-4441-9622-C57BFB0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25B-343D-4910-B715-72CDEE9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3EA-3FB5-4254-A0D6-D93A4C8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232-9913-49AF-8E60-D5DB43D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926-D893-4663-827D-EE4637C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931A0-CA53-46AE-9980-1EE556335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