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15763"/>
        <c:axId val="27310395"/>
      </c:barChart>
      <c:catAx>
        <c:axId val="20315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10395"/>
        <c:crosses val="autoZero"/>
        <c:auto val="1"/>
        <c:lblAlgn val="ctr"/>
        <c:lblOffset val="100"/>
        <c:noMultiLvlLbl val="0"/>
      </c:catAx>
      <c:valAx>
        <c:axId val="273103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15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8D8C-4E3C-4B5D-8B19-44525FF1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22D7-2BCB-4EC9-9A61-96DE947B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827-717F-4571-AD17-5C993908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5507-EA45-429E-A253-57E101EF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BC2-8B48-451B-BD05-6218D668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D1F-F169-4C30-A95D-A0997268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03AF-BC03-4D30-A421-1ECB33CB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644-3394-439F-ADBA-B6357834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54B-993A-44D3-97B5-4D2972DA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22E-8C6E-46FD-8468-3C9CD409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106-DB87-4834-A3B8-42E65A86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618-4BA4-4F0A-B230-3F837495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C9F9B-3930-425E-AC4F-02083896A2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