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81433"/>
        <c:axId val="48019673"/>
      </c:barChart>
      <c:catAx>
        <c:axId val="45881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9673"/>
        <c:crosses val="autoZero"/>
        <c:auto val="1"/>
        <c:lblAlgn val="ctr"/>
        <c:lblOffset val="100"/>
        <c:noMultiLvlLbl val="0"/>
      </c:catAx>
      <c:valAx>
        <c:axId val="48019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1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46C-D944-46EC-95BE-A80B0CE5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E1B-118B-4F23-A427-C5EF46C9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9B7-204C-4CC1-B655-CA5C2FEF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965-2EEA-4798-A559-463F9CFC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3DB-BD4F-4361-B9D2-72ADA0E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3B7-A921-4811-8294-18964F0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B2C-CC71-4B88-990C-BC803F3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FBA-1800-4B31-BF68-EB73445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7D8-B4E7-4C57-A4A3-7A96850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218-461C-44E1-961A-15A17C4E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13E-5216-426C-90DF-1BA968E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C1C-B1E1-4777-96B5-98F1404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6D2F-5294-47F8-A31B-7DAC227EC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