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58483"/>
        <c:axId val="21634884"/>
      </c:barChart>
      <c:catAx>
        <c:axId val="79458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34884"/>
        <c:crosses val="autoZero"/>
        <c:auto val="1"/>
        <c:lblAlgn val="ctr"/>
        <c:lblOffset val="100"/>
        <c:noMultiLvlLbl val="0"/>
      </c:catAx>
      <c:valAx>
        <c:axId val="21634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58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D5E-CBB1-4DBE-B651-A3BC29D6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8FE-642A-4089-BDBE-337A9B41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5A9-055B-4DF5-8871-D09C425C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E11-E626-44AA-996E-82B854C3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5BC-4CF3-4883-AC85-4EE9C16E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692-49D8-45EC-B3FC-967EE9E2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F8D-CE38-4212-AD97-C5E3E72E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AD6-088C-4E69-9C27-2DCD97F3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A6C-EA72-4DBD-BBB2-1A7BC2C4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BE5-C517-4380-BE34-2CB286D1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257-F761-4A75-86C9-E68E842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0A0-1768-4D2D-862E-EC898C87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99DD8-E1AB-4C54-A992-3F2D877331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