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14210"/>
        <c:axId val="53600778"/>
      </c:barChart>
      <c:catAx>
        <c:axId val="25214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00778"/>
        <c:crosses val="autoZero"/>
        <c:auto val="1"/>
        <c:lblAlgn val="ctr"/>
        <c:lblOffset val="100"/>
        <c:noMultiLvlLbl val="0"/>
      </c:catAx>
      <c:valAx>
        <c:axId val="53600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14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C38-5FB9-4E6D-A61D-87DCCC64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34A-CC14-46A4-B2E5-613FE0BC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343-2A90-44D9-BB66-772D41B2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E9B-F9F2-48EF-ADBE-F8B3372A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CB6-28B8-45E8-BCC2-2FE9F0C9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894-C2B4-46E9-BDE3-D0D6AFA3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3CC-25D9-4523-92D6-44265C97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D83-100F-451C-B2D8-E2C9B79C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E9B-7DC1-47DA-9A7B-D48B994F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64D-8793-4EA2-AA0F-B5B1E6D2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BA0-87AD-4557-83A8-F96E065C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E75-EC84-4FDA-B490-78AB1651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53692-1F95-417F-9073-5196B7BC08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