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04353"/>
        <c:axId val="42106035"/>
      </c:barChart>
      <c:catAx>
        <c:axId val="48504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06035"/>
        <c:crosses val="autoZero"/>
        <c:auto val="1"/>
        <c:lblAlgn val="ctr"/>
        <c:lblOffset val="100"/>
        <c:noMultiLvlLbl val="0"/>
      </c:catAx>
      <c:valAx>
        <c:axId val="42106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04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0DF-CBB7-49E3-AE89-E948D1DA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B56-595F-49D3-8BC6-6BEAA9D2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2B9-CD8D-4FCF-AFD8-5CF4795C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94E-880A-47EC-8751-5DB3E110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A1F-4671-4282-BC6D-7B118A50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1D6-5A15-48B7-99AD-8EE9D059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598-1B88-4432-9AA7-4909FA1B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32C-6D58-4982-BBED-A4418389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F55-D09B-4C1F-8CD2-3FEE70AC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850-6A0C-4CB9-B5F7-CDBE791F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A7A-AC7D-40FF-B4DA-4214A01B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1FD-0D6A-4D3D-9E04-26D4D1E3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C66BA-8438-4BA6-912D-7B96CADBE2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