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64189"/>
        <c:axId val="76230329"/>
      </c:barChart>
      <c:catAx>
        <c:axId val="89864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30329"/>
        <c:crosses val="autoZero"/>
        <c:auto val="1"/>
        <c:lblAlgn val="ctr"/>
        <c:lblOffset val="100"/>
        <c:noMultiLvlLbl val="0"/>
      </c:catAx>
      <c:valAx>
        <c:axId val="76230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64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7AE-87AF-4E03-8625-B46DB6E0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3A0-907D-47E9-8BE5-FECAF0E8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F18-90A7-46D6-9552-FA84B70C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720-C300-481B-A1FE-64C30BE5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94C-5C4E-4886-92F1-7CCA8579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A39-78A9-417B-BE22-F7517EE1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242-5ECF-408F-AE75-84BFB92D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74A-E8B5-4429-AAB4-B2A282E1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C08-6F3A-4C6D-B25F-95C8521F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E2A-51E8-4476-B982-192BA6E0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257-AD2C-47D8-9C1A-001E4BC5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4A8-15EC-45C2-9629-94DED10A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32931-D8AC-44A0-9985-621BFDBF6C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