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27042"/>
        <c:axId val="38765554"/>
      </c:barChart>
      <c:catAx>
        <c:axId val="28527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65554"/>
        <c:crosses val="autoZero"/>
        <c:auto val="1"/>
        <c:lblAlgn val="ctr"/>
        <c:lblOffset val="100"/>
        <c:noMultiLvlLbl val="0"/>
      </c:catAx>
      <c:valAx>
        <c:axId val="38765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27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49E-3920-4FB7-BAED-2193B08E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3B0-88DF-454A-B2D2-1421521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570-A687-472C-BD1F-3DD2C8C0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BC9-3A68-4E7E-9B90-1B67DCC5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AC3-C85C-480B-81FD-0D31D73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CCB-F033-444A-80F2-8332D47C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BE7-9F0E-49AE-8144-3C7577A0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8F5-EFA6-4E3C-B3ED-4337E362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22F-FF77-494E-9125-96A1E79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60B-FE04-4CF7-BE03-BACC180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138-4598-44C3-AD97-DECD8365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E1F-8FBA-4460-97D6-E717FBC2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55ED4-1AB9-4FDD-BDE8-62D52ADFE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