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87386"/>
        <c:axId val="72699179"/>
      </c:barChart>
      <c:catAx>
        <c:axId val="50487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99179"/>
        <c:crosses val="autoZero"/>
        <c:auto val="1"/>
        <c:lblAlgn val="ctr"/>
        <c:lblOffset val="100"/>
        <c:noMultiLvlLbl val="0"/>
      </c:catAx>
      <c:valAx>
        <c:axId val="72699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87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889-2658-4122-939F-3920B90D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040-F792-4297-B389-BD45BE3D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FD8-1306-49C4-9F09-C92912EE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3B4-AE44-4045-805E-A96FC2EE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A7E-A74B-4B6F-9357-AB830697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254-9AB0-4609-9C7A-E9565205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F2C-4686-48C6-B942-4C63A2F9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737-41C3-4290-AEAB-DCAF791F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849-270A-476F-A68E-36324B73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81F-CE7B-4406-A565-E329F6D5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CBB4-2C09-4CF6-8DBD-00202531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C9B-0426-472A-AD50-EB32C427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825CE-1277-4419-8A71-63832B2C8B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