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2230147"/>
        <c:axId val="5009999"/>
      </c:barChart>
      <c:catAx>
        <c:axId val="2223014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09999"/>
        <c:crosses val="autoZero"/>
        <c:auto val="1"/>
        <c:lblAlgn val="ctr"/>
        <c:lblOffset val="100"/>
        <c:noMultiLvlLbl val="0"/>
      </c:catAx>
      <c:valAx>
        <c:axId val="500999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23014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16DB-5B35-4BE2-B5B4-353263E47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6AE1-22B9-4CE4-9D00-853F18ABB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B69D-D332-4BC8-8689-4841226C3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E393-6EC5-46C5-809D-420E88DEB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DEF9-74F6-412B-ACE9-BD6CB3877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34ED-6BD0-4A22-8374-0C5D98814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04C1-9304-40BE-B289-871CB6A1D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38AC-19FE-47A8-A7E7-939ACAC9D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5A97-37B3-4FCC-B722-5FE0AB132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671C-E73B-473A-849B-6B85D6627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D632-9CE6-49B0-843F-3872B14EB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D065-91DB-4192-A0CC-0B145AF52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0CA346-E98B-480B-9169-74566B2B78E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