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0165"/>
        <c:axId val="3250092"/>
      </c:barChart>
      <c:catAx>
        <c:axId val="4550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092"/>
        <c:crosses val="autoZero"/>
        <c:auto val="1"/>
        <c:lblAlgn val="ctr"/>
        <c:lblOffset val="100"/>
        <c:noMultiLvlLbl val="0"/>
      </c:catAx>
      <c:valAx>
        <c:axId val="3250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0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387-6E25-456F-9CA3-0F203456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134-2751-4A0A-B03B-1A74BF5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BF3-388D-4B3D-85F2-A6C444F6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953-97F6-492F-B456-592B703C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434-1219-4598-8085-FE077D7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567-9842-400D-BC5A-9430D80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A7A-CB12-4B68-9A7D-2775FD00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357-69C0-4931-9114-160A291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F11-98B5-48EC-8C85-4818705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B9E-3222-4352-AB5B-90859006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A4E-05E5-4882-A2D2-81C5E45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21C-9E3B-469C-9EF4-DD6C78E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58BCA-5CB2-45BA-8C4F-DBB14F789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