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00811"/>
        <c:axId val="1036019"/>
      </c:barChart>
      <c:catAx>
        <c:axId val="42600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019"/>
        <c:crosses val="autoZero"/>
        <c:auto val="1"/>
        <c:lblAlgn val="ctr"/>
        <c:lblOffset val="100"/>
        <c:noMultiLvlLbl val="0"/>
      </c:catAx>
      <c:valAx>
        <c:axId val="1036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00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534-29C8-4EE6-8440-D097F457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FA0-6AC0-4C30-AFA9-1BE17D2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6B8-E82F-4F2E-A4B8-0A6827AD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E6B-85FA-4505-91E8-62A19521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B1C-183A-42C4-9376-593DB6ED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62A-F4DD-4BE3-A240-2E624A44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843-0B80-4C5C-99AA-A3AB5633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786-FF6B-4509-BCBF-EE426E89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BE8-52CE-4E78-B79D-05C85C82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E2E-6F64-4BE8-B45F-A91EC707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7FB-0B4F-45CF-A1DF-49900A64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AE2-1F55-4E9E-BA7F-87C58488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BD41E-90F0-460A-9785-0D48168A0D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