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02155"/>
        <c:axId val="1428852"/>
      </c:barChart>
      <c:catAx>
        <c:axId val="43702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8852"/>
        <c:crosses val="autoZero"/>
        <c:auto val="1"/>
        <c:lblAlgn val="ctr"/>
        <c:lblOffset val="100"/>
        <c:noMultiLvlLbl val="0"/>
      </c:catAx>
      <c:valAx>
        <c:axId val="1428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02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888F-0E05-4B06-9EE6-8E7904AC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5AC-0126-418D-9211-C0B3478E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9AD-451D-44D6-822C-3ACF7E35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E56C-847E-4C7E-8208-29CAED26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B81B-6624-499A-9CE0-FE912CCB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FEFE-BCD6-4AAF-B926-C33170FB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DF2-EA18-4859-AD22-0936DD34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D0B-1DC2-4BF7-A8D6-79006898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33A9-D45A-49BD-9D22-DD89D988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C0E9-EFA0-4924-9E76-2ACE0DB2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E8F-1F1D-4E2F-B95C-DB94338F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75F-2079-4523-9E44-453324F3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0FF9E-1D7B-4B85-91DE-1BBE2388F9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