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33212"/>
        <c:axId val="33641266"/>
      </c:barChart>
      <c:catAx>
        <c:axId val="65933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41266"/>
        <c:crosses val="autoZero"/>
        <c:auto val="1"/>
        <c:lblAlgn val="ctr"/>
        <c:lblOffset val="100"/>
        <c:noMultiLvlLbl val="0"/>
      </c:catAx>
      <c:valAx>
        <c:axId val="33641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33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EB4-35D1-46A9-8F14-A64F2DD4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FCC-78F7-489C-BBBB-54A974D0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FF9-5F82-4838-95F2-55D61FED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6D7-CDBD-48F4-8874-07FA5D20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A06-D243-466C-AA73-4CD9EB22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4FF-CE28-41A5-8E0A-52AD18BD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EE5-2ED2-4250-ABF8-9948454E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B7E-BF39-48AC-99AC-7A454109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A35-AF68-4CC2-8D82-CAC22B71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FFA-DA0F-4EE7-92B0-EC5FA25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376-AF3B-4C59-973E-FAEC408C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645-10F5-4C06-BF09-999E9DC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93063-4715-41CF-AE61-AB19DDC2A4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