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73341"/>
        <c:axId val="76179510"/>
      </c:barChart>
      <c:catAx>
        <c:axId val="97673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9510"/>
        <c:crosses val="autoZero"/>
        <c:auto val="1"/>
        <c:lblAlgn val="ctr"/>
        <c:lblOffset val="100"/>
        <c:noMultiLvlLbl val="0"/>
      </c:catAx>
      <c:valAx>
        <c:axId val="76179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73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EEA-1FC2-4F72-A7D8-4E0FB16E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8A9-2AD2-4622-8D84-6B91CE3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ADF-AB91-4A20-8665-F7E38D11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213-E9B3-42F3-9755-E42F9EA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449-874F-4B6C-AA8F-2E6C2A0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8E4-EEFE-4D22-899D-6B5EAB2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F3B-C89B-436B-883A-0040AC0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41E-17BF-42AC-85B2-A661C7FE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283-3D00-4E2A-858A-08EA4CD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57-6F64-42C4-87E4-4A96C25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AE6-336D-4E42-9C64-D659B0F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DDD-9C22-4258-95D3-A26ECF7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70D9D-F54A-42E3-B06C-46F578516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