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27933"/>
        <c:axId val="45130259"/>
      </c:barChart>
      <c:catAx>
        <c:axId val="17127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30259"/>
        <c:crosses val="autoZero"/>
        <c:auto val="1"/>
        <c:lblAlgn val="ctr"/>
        <c:lblOffset val="100"/>
        <c:noMultiLvlLbl val="0"/>
      </c:catAx>
      <c:valAx>
        <c:axId val="45130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27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F55-F403-4257-800E-A8EA90CA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7BF-9A70-4B36-BE98-39B3AAC6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33B-122E-4BB4-91B6-F21E997D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4E6-A16E-45C0-B1DF-DAB82F72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59B-6B29-4360-92A6-A3CB4917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05A-4BAB-4E60-8250-45D99B11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E9A-2E79-40C0-BA2F-FE3B74C8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621-52C1-4AFA-B49A-D696A553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D8C-C9CF-4C72-9255-4D9EC107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40D-31FA-488A-82CB-00A1C1AE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1DC-B449-47AA-8C16-FD6C3D4C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A5F-CFF3-4B05-9BB7-6FC472E5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34B61-70C0-4F5A-81A3-0A4F3ACDC3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