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5720"/>
        <c:axId val="32618482"/>
      </c:barChart>
      <c:catAx>
        <c:axId val="57375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18482"/>
        <c:crosses val="autoZero"/>
        <c:auto val="1"/>
        <c:lblAlgn val="ctr"/>
        <c:lblOffset val="100"/>
        <c:noMultiLvlLbl val="0"/>
      </c:catAx>
      <c:valAx>
        <c:axId val="32618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5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722-5383-46F8-9AA1-CDB46610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238-2D84-4BA2-BE5C-CAB7B2F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5B8-4F0E-48C5-8CDD-99032912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F5D-4CF5-4B92-B4F4-001C5718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0F5-463A-4CB5-99C9-75A654C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4F8-023C-4054-888A-474F420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0F4-A8CD-4D87-A8E8-57D8282F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ABE-442F-4569-9963-9D0E918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3B4-DA69-41D1-8320-9B3FD96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30C-EB06-44F2-8EF5-07E3B1B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FF0-0E74-4A7C-9B61-DBAC946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A97-6072-4061-8E4D-A556543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DE5C4-35FF-4E20-8690-7D7BA6CFC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