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60587"/>
        <c:axId val="67493973"/>
      </c:barChart>
      <c:catAx>
        <c:axId val="13660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93973"/>
        <c:crosses val="autoZero"/>
        <c:auto val="1"/>
        <c:lblAlgn val="ctr"/>
        <c:lblOffset val="100"/>
        <c:noMultiLvlLbl val="0"/>
      </c:catAx>
      <c:valAx>
        <c:axId val="67493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60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916-6861-48C3-9801-01DF0A60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FD9-1F5F-49E2-90BF-43EF68C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ACA-355C-4BFC-8B2A-CD6DF657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82B-2FE6-4D5C-B076-EF35E7A4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022-78D4-4350-8411-676A8FE0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5B3-8EDF-4F3E-B2A8-21E0818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A56-3231-4D8A-9181-863DC3D0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744-F4CF-46A0-A002-CC279C38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A91-0DC6-4909-8FFE-CE2EA5A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CB1-3DED-4785-8C42-F6952CD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0C7-80A4-4FC2-9B1B-2006EBC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077-52D7-4D26-9DF8-687CD52E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4B1B3-BFF7-4A40-B45D-23EEA31A05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