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61794"/>
        <c:axId val="52053912"/>
      </c:barChart>
      <c:catAx>
        <c:axId val="69861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53912"/>
        <c:crosses val="autoZero"/>
        <c:auto val="1"/>
        <c:lblAlgn val="ctr"/>
        <c:lblOffset val="100"/>
        <c:noMultiLvlLbl val="0"/>
      </c:catAx>
      <c:valAx>
        <c:axId val="52053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61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443-3F28-4CE8-8E07-DAE62AB2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C75-6CED-42AB-8BD0-0A4F4593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53A-8B6D-46E7-A847-FC8EBA25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732-0D80-4164-A21A-2227240D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49C-8632-447F-8A04-E79E7BEA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09C-C9D8-4BEE-84DD-2779E701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C2B-90FD-4A1D-8715-79ED3C8F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649-217B-4DC6-8893-B779CB4C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765-E6D5-4613-AB47-198D6C6A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7C9-60C3-4E03-89DF-81A534F6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B05-1906-44DF-8BF2-048A5CB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CE6-5603-45C9-9C60-CBEC975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BCBDA-525E-4D23-AE64-775D0B181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