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04436"/>
        <c:axId val="67013260"/>
      </c:barChart>
      <c:catAx>
        <c:axId val="13804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13260"/>
        <c:crosses val="autoZero"/>
        <c:auto val="1"/>
        <c:lblAlgn val="ctr"/>
        <c:lblOffset val="100"/>
        <c:noMultiLvlLbl val="0"/>
      </c:catAx>
      <c:valAx>
        <c:axId val="67013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04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DD0-17E3-478D-877E-B38F6B4D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F46-1B7A-40A1-9986-D556DAEC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3D8-8D41-4A7F-BD1A-E8309EB0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076-217D-44CE-BA90-6EF66425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355-01AB-4B1A-923A-9CCD3EC3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A11-A0CF-447B-A209-7F13661A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A67-F54D-42AC-B95F-CD0B688D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A8B-0A3E-4116-8746-E738FACF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53E-C1F1-4528-84B1-F20FDBF0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286-F838-45A0-9850-0E64807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A85-101B-4AB8-8E66-1C82A9AA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2C7-D770-409C-81AE-01E82171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662A7-A268-49C8-954D-DF66F03362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