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468770"/>
        <c:axId val="59772168"/>
      </c:barChart>
      <c:catAx>
        <c:axId val="224687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72168"/>
        <c:crosses val="autoZero"/>
        <c:auto val="1"/>
        <c:lblAlgn val="ctr"/>
        <c:lblOffset val="100"/>
        <c:noMultiLvlLbl val="0"/>
      </c:catAx>
      <c:valAx>
        <c:axId val="597721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687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1BB-B6AF-4AF7-8F59-1D1FBF84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232A-8DD5-4EC9-9B39-07BBB916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F9D9-3273-49C6-822B-ECD3D10E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8684-ACCA-4E2B-A76A-03D132DC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A8C9-1FD6-4097-A4BB-3D7A36A6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765E-54B2-43A8-9F9C-786064FB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FDC2-56D9-4A63-A3F8-94034C34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192F-60B5-46B2-B1D7-BF2E5BB3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11FA-EC86-4BF2-A37A-FE5221CC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E234-3946-4EB6-AF4D-779F2D25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6BF7-1D3C-4B3A-AB7B-8E41F431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BE26-B766-4D9D-827F-DE6DBC4B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62314-4FAE-4D0B-B00E-672F950CC9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