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30503"/>
        <c:axId val="2886062"/>
      </c:barChart>
      <c:catAx>
        <c:axId val="57230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062"/>
        <c:crosses val="autoZero"/>
        <c:auto val="1"/>
        <c:lblAlgn val="ctr"/>
        <c:lblOffset val="100"/>
        <c:noMultiLvlLbl val="0"/>
      </c:catAx>
      <c:valAx>
        <c:axId val="2886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30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C10-6EB0-400D-9E02-1CF28476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117-D876-49F8-A0AE-2ACEB90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204-B3A0-4A6E-A12F-04F2257A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CFC-79D7-4931-A2A6-DBE1CE62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F9F-4C20-4738-9E79-6B65B5A8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61D-62F5-41B6-A2B4-C7FAE85B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F4E-2DE6-420E-828E-7672755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466-ACA8-475F-9DC1-AD043AB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5E1-21A1-4435-B8C2-417EBAF4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068-7297-4E6B-8941-8D14C7F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5C5-DA95-4D03-836F-A115BD7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50B-1FE3-4ACF-B425-32AFE50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2B2DE-96A2-4021-A1ED-70798DCC63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