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084506"/>
        <c:axId val="38818050"/>
      </c:barChart>
      <c:catAx>
        <c:axId val="740845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818050"/>
        <c:crosses val="autoZero"/>
        <c:auto val="1"/>
        <c:lblAlgn val="ctr"/>
        <c:lblOffset val="100"/>
        <c:noMultiLvlLbl val="0"/>
      </c:catAx>
      <c:valAx>
        <c:axId val="388180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0845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CF6C-5009-4312-9984-E2307DE5D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039C-1544-4B0C-BBE3-59863AC10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058B-F314-464B-A230-1257209E4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935D-C547-4201-9EFF-1A5F45CEA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B8AD-6A3D-4359-B793-71B2D1EA0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C0E9-41C4-4DC1-BB39-EF4E24BCD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BA97-EA3F-4D32-88B5-D3E35DEF7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ABDF-C7A3-46F1-862C-63321AEEA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9BC4-82A4-4527-8587-9DBC9F0B7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43AC-D2DF-41C0-B3C4-1C67DCDF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BF1A-C697-42E3-9C3F-63B6D51C6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E320-A03B-4D2E-809C-E1EDBCCB4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E57FBE-207E-4B18-BCCF-A2D25FBEDAE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