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15287"/>
        <c:axId val="97683002"/>
      </c:barChart>
      <c:catAx>
        <c:axId val="91115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3002"/>
        <c:crosses val="autoZero"/>
        <c:auto val="1"/>
        <c:lblAlgn val="ctr"/>
        <c:lblOffset val="100"/>
        <c:noMultiLvlLbl val="0"/>
      </c:catAx>
      <c:valAx>
        <c:axId val="97683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5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415-2AB7-439A-B094-F47227EB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160-1D09-4026-A42B-F81FBC73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F6C-3F79-4797-8AB8-A3611542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0FA-8D35-44DA-8664-AA76A3FB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C4A-F02F-45AC-9059-7960BC49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3A2-A82A-400B-83FA-301FA1ED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01E-5F32-427E-AFA6-DD3D9990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2CB-3844-4696-9D14-660453CB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3B0-2AEF-4FCE-9DDF-BB2A3EC8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597-7F3E-4D87-A287-3A6CC1D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96C-A091-42D4-8A6E-40EA5C8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404-3546-4370-B968-C615ACA2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1CE88-557E-4672-961C-60A6F5525F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