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25426"/>
        <c:axId val="19450435"/>
      </c:barChart>
      <c:catAx>
        <c:axId val="99625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50435"/>
        <c:crosses val="autoZero"/>
        <c:auto val="1"/>
        <c:lblAlgn val="ctr"/>
        <c:lblOffset val="100"/>
        <c:noMultiLvlLbl val="0"/>
      </c:catAx>
      <c:valAx>
        <c:axId val="19450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25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549-745D-4ECC-8883-973D2203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7B5-6AFA-46F9-B22E-C1C8962F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64F-EE1C-419E-8181-29704DB2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1D8-6C13-4FCF-8F16-55517081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05E-4E33-4118-90D3-87BCBF8C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B94-125C-4668-9008-2892CB8D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E62-FD27-4C48-ABC0-3C66A229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96A-E59A-48A0-99A4-80E4FA86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37E-5F2F-4D7B-858B-05E3BC92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5AA-5BF1-42F1-9CD4-0E1E3649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742-E096-42EA-B0E0-7C39342E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F25-9BBC-40A1-9EA5-1D4FCC9D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4F606-7ACE-4067-A922-3E1FA1DE67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