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64838"/>
        <c:axId val="49494181"/>
      </c:barChart>
      <c:catAx>
        <c:axId val="72164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4181"/>
        <c:crosses val="autoZero"/>
        <c:auto val="1"/>
        <c:lblAlgn val="ctr"/>
        <c:lblOffset val="100"/>
        <c:noMultiLvlLbl val="0"/>
      </c:catAx>
      <c:valAx>
        <c:axId val="49494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64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9C0-21C2-4AB3-8D25-EA237FF7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FE2-1237-49BA-8B8F-43E1D03D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73B-616D-431A-8A08-E89ED529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22B-38D3-45E0-BA4D-E60CE73E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B54-FFFA-4421-807E-A94CF350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6A0-BB1E-4D18-9922-1E891C9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A37-47D5-4FD4-AE81-735A1FA2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7B1-9C21-4D12-A5EE-AA5BC130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56F-96EC-4063-B9BA-7F61FB58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C41-2297-4266-9768-F106030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058-8FAE-49D3-9CD7-53B63231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8FE-BF9F-4107-9FB6-03CC872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70D88-7E83-4F62-9CA0-A4F4E74CC9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