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07067"/>
        <c:axId val="15337384"/>
      </c:barChart>
      <c:catAx>
        <c:axId val="30007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37384"/>
        <c:crosses val="autoZero"/>
        <c:auto val="1"/>
        <c:lblAlgn val="ctr"/>
        <c:lblOffset val="100"/>
        <c:noMultiLvlLbl val="0"/>
      </c:catAx>
      <c:valAx>
        <c:axId val="15337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07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2A8-168E-47A3-ADFE-8DB77F6A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19F-F203-4286-8614-58FFE534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FC4-66D7-4573-9B92-54A84DA0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71A-1B24-488D-AD7B-77A9F8FB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238-0FCE-4DCE-9DD4-336F9E67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768-ED94-4A71-9FAB-68EEBEF1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6B6-18AD-4687-87EE-A2E3405B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6EE-762C-4DEA-84C7-024A7F42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3F2-A564-4C70-B9A8-2A239723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B03-6E84-4828-A9FC-EDE27FF2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A8C-2174-4EAC-9141-32EA56A0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B94-4706-4099-8F74-B52FA07F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EF0B5-F1FE-414E-B0A1-B34FCF2F09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