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76189"/>
        <c:axId val="84048516"/>
      </c:barChart>
      <c:catAx>
        <c:axId val="77076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48516"/>
        <c:crosses val="autoZero"/>
        <c:auto val="1"/>
        <c:lblAlgn val="ctr"/>
        <c:lblOffset val="100"/>
        <c:noMultiLvlLbl val="0"/>
      </c:catAx>
      <c:valAx>
        <c:axId val="84048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6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E71-BE19-4BAA-8BBF-3EDD8E71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145-9E65-4195-A418-7FD739D0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D0F-8B20-4BF8-B232-7D492C36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9E7-AD36-4B22-89A7-87E9CB0A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5B7-B8C7-40A3-BED9-A0CD8D4B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3A9-8B22-436E-8DBB-F9295F5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952-A289-4C2B-90FD-183E1F40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A2E-81BB-47E5-B93C-03E02C7A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789-AC29-4515-BDD8-F26A6800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924-9A31-4999-AAE4-2D4565F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565-3615-4B5C-8CDC-B85415E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25E-2EEC-4363-9B64-6526A5A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142C1-99E6-4C67-8033-350035C606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