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94065"/>
        <c:axId val="27660686"/>
      </c:barChart>
      <c:catAx>
        <c:axId val="89794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60686"/>
        <c:crosses val="autoZero"/>
        <c:auto val="1"/>
        <c:lblAlgn val="ctr"/>
        <c:lblOffset val="100"/>
        <c:noMultiLvlLbl val="0"/>
      </c:catAx>
      <c:valAx>
        <c:axId val="27660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94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930-B46B-42B8-BD68-CDAC77A4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051-5AEC-43E9-AC5F-6EC5D0B4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C32-EEF4-4DBE-B90C-59556D7C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264-2F22-4673-AC2E-5F267B76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4E7-E896-474B-96DD-04511958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C64-E30E-44ED-B470-5A494CA1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70F-5817-4E26-8D55-4805F7A6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268-8A1E-4C15-B0E3-EB2CA959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616-D24A-46C0-AD2A-7D954663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777-D62D-4352-B918-4EA5A19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621-E249-4C28-8241-12983633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D5D-8F1B-4B78-8486-0E05104E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49BDF-C82C-49F9-9FB5-C4F20E1FEA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