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726749"/>
        <c:axId val="20874940"/>
      </c:barChart>
      <c:catAx>
        <c:axId val="947267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874940"/>
        <c:crosses val="autoZero"/>
        <c:auto val="1"/>
        <c:lblAlgn val="ctr"/>
        <c:lblOffset val="100"/>
        <c:noMultiLvlLbl val="0"/>
      </c:catAx>
      <c:valAx>
        <c:axId val="208749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7267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3887-C575-46B0-8D57-D222063B9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EDEE-2F3C-45BC-94B1-D3494278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335D-AD9F-41B7-90AF-91BAA7D91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5508-03E9-42C2-B0DB-04F60B060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9613-BBAD-44E8-AB4C-CBE187A9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4B5A-299F-435D-A15E-BD465516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EC35-9596-4985-9E59-E8743632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2DE5-D140-415C-A307-2C670B7F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0015-C02A-4C65-BD08-D56E9649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6DD7-A2B6-4B19-97A7-0822C12E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90B7-B199-4A0E-9CB4-3F5EA6DC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EC05-AF7E-4389-B777-1D2A8C9B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9FA195-1CA9-4736-9E7B-5E0E53CF08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