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037275"/>
        <c:axId val="24434319"/>
      </c:barChart>
      <c:catAx>
        <c:axId val="490372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34319"/>
        <c:crosses val="autoZero"/>
        <c:auto val="1"/>
        <c:lblAlgn val="ctr"/>
        <c:lblOffset val="100"/>
        <c:noMultiLvlLbl val="0"/>
      </c:catAx>
      <c:valAx>
        <c:axId val="244343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372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0CC5-9551-40AE-B79A-B0601835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8CF1-11AD-4AB1-A157-1EADBB15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05BD-9D80-4F2D-B7E4-949186A8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9A85-AB0A-41AE-979C-DC3D2F21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6717-A304-433F-BE33-A1EF0009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2B22-0BA9-4168-9F20-460546B9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8480-B927-4A56-8E37-9CBFAA05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33DE-CA33-492D-962C-2C71C133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67A0-1305-42C5-A572-D8F8DBA5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F139-4CBD-4C95-AD02-9429B569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3EEB-DC23-413B-BCB7-242A3895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A77A-FF10-4E36-9C4F-9C6858A1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7E8A7-B772-4391-BA0E-1D19281D22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